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48C7A5-7567-4585-B4F6-3C087F8627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URL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362-3EC5-4A38-B122-5B9FFDDF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B52-FA76-42DD-8B83-5EC02883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681-F370-412D-9204-84ADC34B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F9D-A651-4B5A-9BDA-F7BC7AC0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AF1-857B-42AD-BACE-781CD47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B50-3E29-4D74-BD25-57093DBE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416-ACE3-4B12-AF2E-031FE0F6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69E-CF13-4EA2-8497-97B006B8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0E9-FFDA-4E19-96C7-7F1C953B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968-507B-4AC3-A93A-74DD8FA3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E29-E047-403F-A5A7-4A0E8B8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3BC-2E21-459D-A9ED-814DA1B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D2B-E94C-4E86-8E05-72D694E40E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br>
              <a:rPr sz="4400"/>
            </a:b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ディスカッショ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ソニ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神長浩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minaga@sm.sony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5AE-12EC-48E6-A4A4-3F9ACF466E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バニラカーネルに含まれてい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制作者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E50-1BC5-4A96-B477-C758CA6699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上の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（比較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2960" y="1484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35560" y="5948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出典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028-3118-44CC-BA87-4DEB7523B5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環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ターゲットボー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665-1554-40ED-B908-89058A40358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作業内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ux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選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ず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susp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試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ポーティン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へ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高速シャットダウ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Boot loader </a:t>
            </a:r>
            <a:r>
              <a:rPr b="0" lang="ja-JP" sz="2800" spc="-1" strike="noStrike">
                <a:solidFill>
                  <a:srgbClr val="b2b2b2"/>
                </a:solidFill>
                <a:latin typeface="Times New Roman"/>
                <a:ea typeface=""/>
              </a:rPr>
              <a:t>側の 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hiber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DEFERED_RES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E96-4A46-47FA-918C-04E1B8099A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現状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調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圧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暗号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ティン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-boot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調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側の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379-9DEF-411A-84F5-A28DEA8157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デモ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5F0-78B3-474E-8C17-E8A6DDB485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コミュニテ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ポートパッチ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送ったら好意的に受け止められ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質問・問題点などについて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ドバイスしてもらっ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C32-3DCC-47D9-95AA-3E27A53A98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426-727F-4E97-8257-B5B11C7952B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19700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8900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8136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57336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祝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阪神タイガーズ</a:t>
            </a:r>
            <a:r>
              <a:rPr b="0" lang="ja-JP" sz="4400" spc="-1" strike="noStrike">
                <a:solidFill>
                  <a:srgbClr val="ff0000"/>
                </a:solidFill>
                <a:latin typeface="Times New Roman"/>
              </a:rPr>
              <a:t>優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CBE-8191-481A-8BED-615535E825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目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プリケーション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()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に到達するまでに行われる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イメージの転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ダイナミック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グローバルコンストラク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システム全体を稼動する為のアプリケーション間の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処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52360" y="213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ＨＷ初期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7800" y="21463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ウン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93920" y="2190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プリケーションの起動時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Times New Roman"/>
              </a:rPr>
              <a:t>アプリケーションの起動時間を短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B03-1EBF-4CEF-B65B-DC3AF07E02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従来の手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ダイナミックリンクの処理時間の短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グローバルコンストラクタの処理時間の短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コンストラクタを一箇所に集める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（ローカライズ効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in place (X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セクションのデマンドページング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（前回の水山さんの発表より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D6C-50A4-4611-A9E8-838F1CD9E3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今回の手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bernate 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からの復帰を利用す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ED8-4195-4DAB-B6DB-6FBB83F3A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37879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371628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71628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65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lnTo>
                  <a:pt x="758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0" y="4726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1773360"/>
            <a:ext cx="1908000" cy="100800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3600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88B-2EF4-434E-B822-DCAE3447B4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773360"/>
            <a:ext cx="1079640" cy="1008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773360"/>
            <a:ext cx="1584360" cy="1008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276640"/>
            <a:ext cx="0" cy="3097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177336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278136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lnTo>
                  <a:pt x="7347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17733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19" y="0"/>
                </a:lnTo>
                <a:lnTo>
                  <a:pt x="21600" y="10800"/>
                </a:lnTo>
                <a:lnTo>
                  <a:pt x="13619" y="21600"/>
                </a:lnTo>
                <a:lnTo>
                  <a:pt x="0" y="21600"/>
                </a:lnTo>
                <a:lnTo>
                  <a:pt x="7981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56720" y="1773360"/>
            <a:ext cx="1116000" cy="10080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lnTo>
                  <a:pt x="617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773360"/>
            <a:ext cx="935280" cy="1008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72" y="0"/>
                </a:lnTo>
                <a:lnTo>
                  <a:pt x="21600" y="10800"/>
                </a:lnTo>
                <a:lnTo>
                  <a:pt x="15072" y="21600"/>
                </a:lnTo>
                <a:lnTo>
                  <a:pt x="0" y="21600"/>
                </a:lnTo>
                <a:lnTo>
                  <a:pt x="652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F68-8C35-43C2-921E-92537673CF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終了・起動シーケンス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1773360"/>
            <a:ext cx="1511280" cy="1008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773360"/>
            <a:ext cx="647640" cy="1008000"/>
          </a:xfrm>
          <a:custGeom>
            <a:avLst/>
            <a:gdLst>
              <a:gd name="textAreaLeft" fmla="*/ 0 w 647640"/>
              <a:gd name="textAreaRight" fmla="*/ 648000 w 647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773360"/>
            <a:ext cx="936720" cy="1008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5440" y="1773360"/>
            <a:ext cx="1008360" cy="1008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0" y="0"/>
                </a:lnTo>
                <a:lnTo>
                  <a:pt x="21600" y="10800"/>
                </a:lnTo>
                <a:lnTo>
                  <a:pt x="16770" y="21600"/>
                </a:lnTo>
                <a:lnTo>
                  <a:pt x="0" y="21600"/>
                </a:lnTo>
                <a:lnTo>
                  <a:pt x="483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79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7800" y="177336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0" y="21600"/>
                </a:lnTo>
                <a:lnTo>
                  <a:pt x="536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718080"/>
            <a:ext cx="792360" cy="1008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7180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0560" y="3718080"/>
            <a:ext cx="506160" cy="1008000"/>
          </a:xfrm>
          <a:custGeom>
            <a:avLst/>
            <a:gdLst>
              <a:gd name="textAreaLeft" fmla="*/ 0 w 506160"/>
              <a:gd name="textAreaRight" fmla="*/ 506520 w 506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718080"/>
            <a:ext cx="865080" cy="1008000"/>
          </a:xfrm>
          <a:custGeom>
            <a:avLst/>
            <a:gdLst>
              <a:gd name="textAreaLeft" fmla="*/ 0 w 865080"/>
              <a:gd name="textAreaRight" fmla="*/ 865440 w 86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87" y="0"/>
                </a:lnTo>
                <a:lnTo>
                  <a:pt x="21600" y="10800"/>
                </a:lnTo>
                <a:lnTo>
                  <a:pt x="16487" y="21600"/>
                </a:lnTo>
                <a:lnTo>
                  <a:pt x="0" y="21600"/>
                </a:lnTo>
                <a:lnTo>
                  <a:pt x="5113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6920" y="3716280"/>
            <a:ext cx="720720" cy="1008000"/>
          </a:xfrm>
          <a:custGeom>
            <a:avLst/>
            <a:gdLst>
              <a:gd name="textAreaLeft" fmla="*/ 0 w 720720"/>
              <a:gd name="textAreaRight" fmla="*/ 72108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4" y="0"/>
                </a:lnTo>
                <a:lnTo>
                  <a:pt x="21600" y="10800"/>
                </a:lnTo>
                <a:lnTo>
                  <a:pt x="15604" y="21600"/>
                </a:lnTo>
                <a:lnTo>
                  <a:pt x="0" y="21600"/>
                </a:lnTo>
                <a:lnTo>
                  <a:pt x="5996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2764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7F3-F989-4031-BD88-C209774139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各種手法比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が比較的高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データの整合性が取れない場合の</a:t>
            </a:r>
            <a:br>
              <a:rPr sz="2400"/>
            </a:b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処理が複雑に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ベ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後のデータの整合性をとる</a:t>
            </a:r>
            <a:br>
              <a:rPr sz="2400"/>
            </a:b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処理が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復帰に時間がかか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高速な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ibernate 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復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データの整合性をとる処理ができ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735-9FB9-4065-8A89-F26D0145C2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コンセプ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スタートアッ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 loader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ヘルパー関数を用い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側の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hibernate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までの処理を軽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_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指定されたアプリを優先的に立ち上げ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システムイメージの保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毎回同じ状態でスタートする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マウン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ash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高速シャットダウ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7A0-8535-417E-A495-688B68D2E5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kaminaga</cp:lastModifiedBy>
  <dcterms:modified xsi:type="dcterms:W3CDTF">2005-09-30T00:26:29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